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318-5B9C-40EA-875C-E85A871A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C9FF-CC2D-4C5B-98CB-693EE1AD11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D72-7714-49DE-B1F1-30EB712F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C76B-071B-4F1F-A31A-351FFE3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5F1-5559-42AA-89FC-6E4D3FD1C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51A-D924-4737-B3BE-C809AB92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95E9-0571-4E9F-B301-BB7E377F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42B-5E31-4EAD-BFC8-8FE542FD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8556-03C7-47D9-91D8-7DA00936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9EBF-D17B-42DB-AC6A-F2454FDA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43F3-7A12-48D2-BC0E-F654D37A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8C54-AA98-473A-81E6-F3C301C6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579-FBDB-4BDA-85B3-B923469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14F-4F6F-429D-ADB3-CA967EB2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1368-F345-4393-8505-CBF5BAB1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5C3C-4FAC-4118-BDCF-AB8843D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36E1-84E8-418E-A98B-EAC28D8A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4CEF-1000-4817-8B2D-B6CDD89C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A126-B4F4-427D-AA6D-B8931A80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5C7-B297-439D-81BE-8EDDB3F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B2A-9C2D-41C9-9026-C8843446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F02B-3ED7-4B3D-B3CF-D0DEA74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A2B-0D39-444C-9D5A-6B12FB52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CE9-432E-46CE-BA43-05F6790F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1391-C392-4073-90C4-58CE8D1C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E22-7841-4E18-811E-DA4B34E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9E8-95EC-42E2-BB0C-B01E73327365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C98F-372A-4252-97F0-4576B4C11406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LeBron James Miami Florida Mansion"/>
          <p:cNvPicPr/>
          <p:nvPr/>
        </p:nvPicPr>
        <p:blipFill>
          <a:blip r:embed="rId2"/>
          <a:stretch/>
        </p:blipFill>
        <p:spPr>
          <a:xfrm>
            <a:off x="152280" y="2819520"/>
            <a:ext cx="4876920" cy="3438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5181480" y="3276720"/>
            <a:ext cx="3505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Bron James maison est belle et bla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410080" y="1599840"/>
            <a:ext cx="3657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 jardin a une terrasse et une piscine avec bleu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umièr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92160" y="1733400"/>
            <a:ext cx="54036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410080" y="297180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 chambre est brunes et confortab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4086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3425760" y="1060560"/>
            <a:ext cx="4200480" cy="113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324480" y="3352680"/>
            <a:ext cx="28195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 salon est grise avec un grand f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enêt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5" descr="Josh Altman sexiest bachelor pad los angeles"/>
          <p:cNvPicPr/>
          <p:nvPr/>
        </p:nvPicPr>
        <p:blipFill>
          <a:blip r:embed="rId2"/>
          <a:stretch/>
        </p:blipFill>
        <p:spPr>
          <a:xfrm>
            <a:off x="152280" y="2362320"/>
            <a:ext cx="5619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486040" y="3657600"/>
            <a:ext cx="2895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a cuisine est très grande et noir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76320" y="1752480"/>
            <a:ext cx="502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257800" y="3352320"/>
            <a:ext cx="3581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 salle de bains est blanc et bel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6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685800" y="2057400"/>
            <a:ext cx="422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723920" y="3200400"/>
            <a:ext cx="396252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Le théâtre est super. Il est blanc et brunes.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9" name="Picture 5" descr="LeBron James Miami Florida Mansion"/>
          <p:cNvPicPr/>
          <p:nvPr/>
        </p:nvPicPr>
        <p:blipFill>
          <a:blip r:embed="rId2"/>
          <a:stretch/>
        </p:blipFill>
        <p:spPr>
          <a:xfrm>
            <a:off x="0" y="1447920"/>
            <a:ext cx="48387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'aime les lumières bleues dans la pisci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n`aime pas la couleur noire dans la cuisi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Je pense que LeBron James maison est bell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5" descr="Click to show &quot;LeBron James&quot; result 1"/>
          <p:cNvPicPr/>
          <p:nvPr/>
        </p:nvPicPr>
        <p:blipFill>
          <a:blip r:embed="rId2"/>
          <a:stretch/>
        </p:blipFill>
        <p:spPr>
          <a:xfrm>
            <a:off x="3352680" y="3962520"/>
            <a:ext cx="2378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9:01:20Z</dcterms:created>
  <dc:creator>edill</dc:creator>
  <dc:description/>
  <dc:language>en-US</dc:language>
  <cp:lastModifiedBy>Papi</cp:lastModifiedBy>
  <dcterms:modified xsi:type="dcterms:W3CDTF">2011-11-16T21:26:59Z</dcterms:modified>
  <cp:revision>41</cp:revision>
  <dc:subject/>
  <dc:title>Le salon</dc:title>
</cp:coreProperties>
</file>